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9925050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467-F2F3-46D8-805C-65103A65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5E5-88AE-47E3-916E-E563273C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34C-9E20-44DB-9971-A28FF7F9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32E-2D05-472C-A517-77972294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9ED-2F3D-46BB-BE35-1AAAD08F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728-BD06-4F9E-A01B-894E46A9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703-05FB-406F-A99F-693D2830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458-703A-4EF8-8BE9-AFFDD4FC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E8A-77D4-4F9F-AE99-5D3CA649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99C-FD84-4D88-9096-2D7F5CCE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D3C-8BC3-456A-9CBC-6B89E24D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52E-8894-43D3-8672-01EB01D1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632D-677E-433B-BE38-24F96A9395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143000" y="473040"/>
            <a:ext cx="14203440" cy="1036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icture 6"/>
          <p:cNvSpPr/>
          <p:nvPr/>
        </p:nvSpPr>
        <p:spPr>
          <a:xfrm>
            <a:off x="13501800" y="8586720"/>
            <a:ext cx="1114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10"/>
          <p:cNvSpPr/>
          <p:nvPr/>
        </p:nvSpPr>
        <p:spPr>
          <a:xfrm>
            <a:off x="1736640" y="4937040"/>
            <a:ext cx="1267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 улицам Кемеровского муниципального о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л.Трактовая (д. Дмитриев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л.Вишневая (д.Сухов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нейные граф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онные зна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о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5857920" y="144288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ОО « СИБДОРПРОЕК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3000240" y="3943440"/>
            <a:ext cx="109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ОЕКТ ОРГАНИЗАЦИИ ДОРОЖНОГО  ДВИ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5769000" y="99061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ЕМЕРОВО, 2024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8501040" y="6872400"/>
            <a:ext cx="571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2"/>
          <a:stretch/>
        </p:blipFill>
        <p:spPr>
          <a:xfrm>
            <a:off x="1954080" y="1407960"/>
            <a:ext cx="13320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4:58:01Z</dcterms:created>
  <dc:creator>User2005</dc:creator>
  <dc:description/>
  <dc:language>en-US</dc:language>
  <cp:lastModifiedBy>User</cp:lastModifiedBy>
  <cp:lastPrinted>2023-04-06T06:55:00Z</cp:lastPrinted>
  <dcterms:modified xsi:type="dcterms:W3CDTF">2024-04-23T03:37:01Z</dcterms:modified>
  <cp:revision>67</cp:revision>
  <dc:subject/>
  <dc:title>Презентация PowerPoint</dc:title>
</cp:coreProperties>
</file>